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4CB-B307-4648-9E0A-869FD2D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634-F64B-4997-870B-F79D8BCF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A70-9D02-41F1-9974-C473D4B2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323-FBC0-4E9C-A2C8-AAB6270C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7FB-2826-4A25-A6D8-04FBF44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6C1-46B2-4450-A92F-AE04BD4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B28-91F0-47C2-8387-BB8BA64F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CF2-3A98-4B6F-9E4C-6127F8C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E8D-712A-43D8-AB6C-18360BD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57F-CCB9-4C99-A79B-C9EEAF2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DAF-E6C0-4C83-A88D-F1FAC5BB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D38-4ADE-40A1-BE6D-9126495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77B-DF02-4F92-BF43-F3790044BB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16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1980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10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872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16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520" y="5445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652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86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4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23:31Z</dcterms:modified>
  <cp:revision>74</cp:revision>
  <dc:subject/>
  <dc:title>Folie 1</dc:title>
</cp:coreProperties>
</file>